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0A34-5DD3-436C-96D4-C964D0FAF84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E1182-D3A0-4AC7-AE91-1564682B5A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A56FA-5A32-47A4-BD7B-2CA9F65276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E3CE3-D86F-4A74-A44F-72E4E781C6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B805F-8E15-4566-86D1-E963BECD99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C651F-FD77-4A46-9048-125FFDEE7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7402E-8516-45C2-A984-C06C71481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F0103-9CA4-4BE3-959E-87F50D6EC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E9F3D-7889-44EF-BF71-2AC2020B3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FED70-0D60-4326-A6AE-F91C15EEF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D80D8-6969-435D-891B-7895ECF7B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8EF73-D388-49B5-90A4-A64278B4E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6946E-7251-43C4-91BB-04DEE6284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83485-CB11-45E4-B572-848F83F24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F1603-6FB0-45D8-BD13-F7D16C30F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9D05F-25D4-4AD6-A062-08642122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0C855-8113-4934-BB29-6FC1C67ED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32355-EB50-4624-A937-B5D87011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75EA2-4D66-4DFA-B1CC-F5ACDF7E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29760-A857-4D0E-9C04-F71F48161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DDA2A-2ECB-4527-8D6E-00665789C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319C1-C736-402B-9C9F-668B92236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D8CD6-6286-4A3B-9BF2-EC3202DD3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B6D00-8A1D-4B15-8B8A-072686438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5B27B-D5D9-4E27-BF40-2BDBF3D0F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E7AE6-FE1A-414D-A85B-CD7CB1F9A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F5C9C-01A1-4579-B4A2-2016288B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CC264-552D-4058-9386-1B859C1E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5D8E5-A37A-4754-91DF-A9A55BA7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51600-1E41-42E3-9056-2ABBDA8E5B5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F05DF-C9B9-4684-92FF-4A4641AC506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9.jpeg"/><Relationship Id="rId5" Type="http://schemas.openxmlformats.org/officeDocument/2006/relationships/image" Target="../media/image1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biodiversity.ru/programs/vyhuh/gallery/video.html" TargetMode="External"/><Relationship Id="rId2" Type="http://schemas.openxmlformats.org/officeDocument/2006/relationships/hyperlink" Target="http://www.biodiversity.ru/programs/vyhuh/gallery/video.html" TargetMode="External"/><Relationship Id="rId3" Type="http://schemas.openxmlformats.org/officeDocument/2006/relationships/hyperlink" Target="http://www.biodiversity.ru/programs/vyhuh/gallery/video.html" TargetMode="External"/><Relationship Id="rId4" Type="http://schemas.openxmlformats.org/officeDocument/2006/relationships/hyperlink" Target="http://www.biodiversity.ru/programs/vyhuh/gallery/video.html" TargetMode="External"/><Relationship Id="rId5" Type="http://schemas.openxmlformats.org/officeDocument/2006/relationships/hyperlink" Target="http://www.biodiversity.ru/programs/vyhuh/gallery/video.html" TargetMode="External"/><Relationship Id="rId6" Type="http://schemas.openxmlformats.org/officeDocument/2006/relationships/hyperlink" Target="http://www.biodiversity.ru/programs/vyhuh/gallery/video.html" TargetMode="External"/><Relationship Id="rId7" Type="http://schemas.openxmlformats.org/officeDocument/2006/relationships/hyperlink" Target="http://www.biodiversity.ru/programs/vyhuh/gallery/video.html" TargetMode="External"/><Relationship Id="rId8" Type="http://schemas.openxmlformats.org/officeDocument/2006/relationships/hyperlink" Target="http://www.biodiversity.ru/programs/vyhuh/gallery/video.html" TargetMode="External"/><Relationship Id="rId9" Type="http://schemas.openxmlformats.org/officeDocument/2006/relationships/hyperlink" Target="http://www.biodiversity.ru/programs/vyhuh/gallery/video.html" TargetMode="External"/><Relationship Id="rId10" Type="http://schemas.openxmlformats.org/officeDocument/2006/relationships/hyperlink" Target="http://www.biodiversity.ru/programs/vyhuh/gallery/video.html" TargetMode="External"/><Relationship Id="rId11" Type="http://schemas.openxmlformats.org/officeDocument/2006/relationships/hyperlink" Target="http://www.biodiversity.ru/programs/vyhuh/gallery/video.html" TargetMode="External"/><Relationship Id="rId12" Type="http://schemas.openxmlformats.org/officeDocument/2006/relationships/hyperlink" Target="http://www.biodiversity.ru/programs/vyhuh/gallery/video.html" TargetMode="External"/><Relationship Id="rId1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419280" y="4723920"/>
            <a:ext cx="572436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подаватель биологи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Лицей г. Уварово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мбовской области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б. тел. +7 475 582 11 6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e-mail: luvr-zam1@mail.ru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аскатова Тамара Валентиновна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843280" y="1699920"/>
            <a:ext cx="6300720" cy="21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7b7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ма:«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Я есть жизнь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желающая жить среди жизни,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желающей жить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8" descr="buzzy_mad_md_wht"/>
          <p:cNvPicPr/>
          <p:nvPr/>
        </p:nvPicPr>
        <p:blipFill>
          <a:blip r:embed="rId1"/>
          <a:stretch/>
        </p:blipFill>
        <p:spPr>
          <a:xfrm rot="384600">
            <a:off x="3094200" y="4394160"/>
            <a:ext cx="2036520" cy="180036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13" descr="ГербУварво2.gif"/>
          <p:cNvPicPr/>
          <p:nvPr/>
        </p:nvPicPr>
        <p:blipFill>
          <a:blip r:embed="rId2"/>
          <a:stretch/>
        </p:blipFill>
        <p:spPr>
          <a:xfrm>
            <a:off x="755640" y="3860640"/>
            <a:ext cx="1905120" cy="240984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15" descr="ЛицейЛого.jpg"/>
          <p:cNvPicPr/>
          <p:nvPr/>
        </p:nvPicPr>
        <p:blipFill>
          <a:blip r:embed="rId3"/>
          <a:stretch/>
        </p:blipFill>
        <p:spPr>
          <a:xfrm>
            <a:off x="468360" y="907920"/>
            <a:ext cx="1790640" cy="164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Arial"/>
              </a:rPr>
              <a:t>Цель проек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формирование экологической компетентности лицеистов, привлечение их к исследовательской деятельности как способу познания окружающей действите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пределение и обоснование наиболее эффективных форм и методов формирования экологического сознания как основы нравственного воспитания учащихся на примере создания и реализации детского экологического проекта по сохранению редких видов своей обла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836640"/>
            <a:ext cx="70567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5400" spc="-1" strike="noStrike" u="sng">
                <a:solidFill>
                  <a:srgbClr val="00007d"/>
                </a:solidFill>
                <a:uFillTx/>
                <a:latin typeface="Arial"/>
              </a:rPr>
              <a:t>Задача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учить уровень экологической культуры лицеистов и разработать для них соответствующую образовательную программу и методические рекомендации формирования </a:t>
            </a: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компетен</a:t>
            </a: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ций в области экологиче</a:t>
            </a: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ской культу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7" descr="buzzy_mad_md_wht"/>
          <p:cNvPicPr/>
          <p:nvPr/>
        </p:nvPicPr>
        <p:blipFill>
          <a:blip r:embed="rId1"/>
          <a:stretch/>
        </p:blipFill>
        <p:spPr>
          <a:xfrm rot="1500000">
            <a:off x="4039920" y="4879440"/>
            <a:ext cx="1022400" cy="10922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Ровесник мамонта оказался в плачевном состоянии (фото: parkugra.forest.ru)"/>
          <p:cNvPicPr/>
          <p:nvPr/>
        </p:nvPicPr>
        <p:blipFill>
          <a:blip r:embed="rId2"/>
          <a:stretch/>
        </p:blipFill>
        <p:spPr>
          <a:xfrm>
            <a:off x="5857920" y="3857760"/>
            <a:ext cx="3286080" cy="300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102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4800" spc="-1" strike="noStrike" u="sng">
                <a:solidFill>
                  <a:srgbClr val="00007d"/>
                </a:solidFill>
                <a:uFillTx/>
                <a:latin typeface="Arial"/>
              </a:rPr>
              <a:t>Задача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ктуализировать у лицеистов </a:t>
            </a:r>
            <a:r>
              <a:rPr b="1" lang="ru-RU" sz="4000" spc="-1" strike="noStrike">
                <a:solidFill>
                  <a:srgbClr val="00007d"/>
                </a:solidFill>
                <a:latin typeface="Arial"/>
              </a:rPr>
              <a:t>компетентности в саморазвитии, самопознании, самосовершен-ствовании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и побудить их к пониманию ценности любой жизни на примере трагедии русской выхухол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5400" spc="-1" strike="noStrike" u="sng">
                <a:solidFill>
                  <a:srgbClr val="00007d"/>
                </a:solidFill>
                <a:uFillTx/>
                <a:latin typeface="Arial"/>
              </a:rPr>
              <a:t>Задача 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9280" y="2133720"/>
            <a:ext cx="8964720" cy="38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пособствовать формированию </a:t>
            </a:r>
            <a:r>
              <a:rPr b="1" lang="ru-RU" sz="4000" spc="-1" strike="noStrike">
                <a:solidFill>
                  <a:srgbClr val="00007d"/>
                </a:solidFill>
                <a:latin typeface="Arial"/>
              </a:rPr>
              <a:t>познавательной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7d"/>
                </a:solidFill>
                <a:latin typeface="Arial"/>
              </a:rPr>
              <a:t>компетен-тности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 используя алгоритмы выполнения исследования, написания и представления исследовательской работ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7" descr="buzzy_mad_md_wht"/>
          <p:cNvPicPr/>
          <p:nvPr/>
        </p:nvPicPr>
        <p:blipFill>
          <a:blip r:embed="rId1"/>
          <a:stretch/>
        </p:blipFill>
        <p:spPr>
          <a:xfrm rot="1500000">
            <a:off x="6611760" y="808200"/>
            <a:ext cx="1022400" cy="109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5400" spc="-1" strike="noStrike" u="sng">
                <a:solidFill>
                  <a:srgbClr val="00007d"/>
                </a:solidFill>
                <a:uFillTx/>
                <a:latin typeface="Arial"/>
              </a:rPr>
              <a:t>Задача 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пособствовать формированию </a:t>
            </a:r>
            <a:r>
              <a:rPr b="1" lang="ru-RU" sz="4000" spc="-1" strike="noStrike">
                <a:solidFill>
                  <a:srgbClr val="00007d"/>
                </a:solidFill>
                <a:latin typeface="Arial"/>
              </a:rPr>
              <a:t>гражданско-правовой компе-тентности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(воспитанию интел-лектуальной, творческой, практически ориентированной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 ответственной личности лицеистов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836280"/>
            <a:ext cx="857232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7d"/>
                </a:solidFill>
                <a:uFillTx/>
                <a:latin typeface="Arial"/>
              </a:rPr>
              <a:t>Реализация проек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7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ля того чтобы, сформировать намеченные компетентности необходимо правильно выбрать методы и формы урочной и внеурочной деятельности, а далее эффективно их реализова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4000" y="765000"/>
            <a:ext cx="8229600" cy="10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Arial"/>
              </a:rPr>
              <a:t>Реализация проек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работе прослеживаются три направл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7d"/>
                </a:solidFill>
                <a:uFillTx/>
                <a:latin typeface="Arial"/>
              </a:rPr>
              <a:t>подбор </a:t>
            </a: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форм и методов урочной деятельности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2. </a:t>
            </a:r>
            <a:r>
              <a:rPr b="1" lang="en-US" sz="2800" spc="-1" strike="noStrike" u="sng">
                <a:solidFill>
                  <a:srgbClr val="00007d"/>
                </a:solidFill>
                <a:uFillTx/>
                <a:latin typeface="Arial"/>
              </a:rPr>
              <a:t>подбор</a:t>
            </a: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 форм и методов внеурочной деяте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3. </a:t>
            </a:r>
            <a:r>
              <a:rPr b="1" lang="en-US" sz="2800" spc="-1" strike="noStrike" u="sng">
                <a:solidFill>
                  <a:srgbClr val="00007d"/>
                </a:solidFill>
                <a:uFillTx/>
                <a:latin typeface="Arial"/>
              </a:rPr>
              <a:t>проверка</a:t>
            </a: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 их эффективности через реализацию детского экологического про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7d"/>
                </a:solidFill>
                <a:uFillTx/>
                <a:latin typeface="Arial"/>
              </a:rPr>
              <a:t>Формы</a:t>
            </a:r>
            <a:r>
              <a:rPr b="1" lang="en-US" sz="4400" spc="-1" strike="noStrike" u="sng">
                <a:solidFill>
                  <a:srgbClr val="00007d"/>
                </a:solidFill>
                <a:uFillTx/>
                <a:latin typeface="Arial"/>
              </a:rPr>
              <a:t> </a:t>
            </a:r>
            <a:r>
              <a:rPr b="1" lang="ru-RU" sz="4400" spc="-1" strike="noStrike" u="sng">
                <a:solidFill>
                  <a:srgbClr val="00007d"/>
                </a:solidFill>
                <a:uFillTx/>
                <a:latin typeface="Arial"/>
              </a:rPr>
              <a:t>и методы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Работа с дополнительной литератур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Исследовательск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Создание схем, фотоальбомов, стен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Творческие зад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Просветительская и организационн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Экологическая конфере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Экологический патру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7d"/>
                </a:solidFill>
                <a:uFillTx/>
                <a:latin typeface="Arial"/>
              </a:rPr>
              <a:t>Содержание учебного прое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14200" y="1499760"/>
            <a:ext cx="87868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ая цель проекта – создать условия для раз-вития умения школьников учиться на собственном опыте и опыте других обучающихся в процессе разработки и за-щите проекта. Данный проект – полипредметный и затра-гивает предмет биологию и экологию. Он рассчитан на 2 часа учебного времени и двух недельную внеурочную работу по поиску, сбору, анализу, обработке информа-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ный проект относится к поисково – аналитически - информационным, практико-ориентированным, продук-тивным. Он предусматривает сбор и анализ информа-ции, проведение опросов, подготовку и защиту выступле-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7d"/>
                </a:solidFill>
                <a:uFillTx/>
                <a:latin typeface="Arial"/>
              </a:rPr>
              <a:t>Этапы учебного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отрим поэтапную деятельность учителя по организации работы обучающихся над проек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buzzy_mad_md_wht"/>
          <p:cNvPicPr/>
          <p:nvPr/>
        </p:nvPicPr>
        <p:blipFill>
          <a:blip r:embed="rId1"/>
          <a:stretch/>
        </p:blipFill>
        <p:spPr>
          <a:xfrm rot="1500000">
            <a:off x="1468080" y="4522320"/>
            <a:ext cx="1022400" cy="10922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buzzy_mad_md_wht"/>
          <p:cNvPicPr/>
          <p:nvPr/>
        </p:nvPicPr>
        <p:blipFill>
          <a:blip r:embed="rId2"/>
          <a:stretch/>
        </p:blipFill>
        <p:spPr>
          <a:xfrm rot="1500000">
            <a:off x="3754080" y="4736880"/>
            <a:ext cx="1022400" cy="10922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buzzy_mad_md_wht"/>
          <p:cNvPicPr/>
          <p:nvPr/>
        </p:nvPicPr>
        <p:blipFill>
          <a:blip r:embed="rId3"/>
          <a:stretch/>
        </p:blipFill>
        <p:spPr>
          <a:xfrm rot="1500000">
            <a:off x="6899400" y="3946320"/>
            <a:ext cx="998280" cy="10918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Ровесник мамонта оказался в плачевном состоянии (фото: parkugra.forest.ru)"/>
          <p:cNvPicPr/>
          <p:nvPr/>
        </p:nvPicPr>
        <p:blipFill>
          <a:blip r:embed="rId4"/>
          <a:stretch/>
        </p:blipFill>
        <p:spPr>
          <a:xfrm>
            <a:off x="5286240" y="3500280"/>
            <a:ext cx="3857760" cy="3357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buzzy_mad_md_wht"/>
          <p:cNvPicPr/>
          <p:nvPr/>
        </p:nvPicPr>
        <p:blipFill>
          <a:blip r:embed="rId5"/>
          <a:stretch/>
        </p:blipFill>
        <p:spPr>
          <a:xfrm rot="1500000">
            <a:off x="2611080" y="3951000"/>
            <a:ext cx="102240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Рисунок 6" descr="ЗданиеСверху.jpg"/>
          <p:cNvPicPr/>
          <p:nvPr/>
        </p:nvPicPr>
        <p:blipFill>
          <a:blip r:embed="rId1"/>
          <a:stretch/>
        </p:blipFill>
        <p:spPr>
          <a:xfrm>
            <a:off x="208080" y="738360"/>
            <a:ext cx="8637480" cy="561960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15" descr="ЛицейЛого.jpg"/>
          <p:cNvPicPr/>
          <p:nvPr/>
        </p:nvPicPr>
        <p:blipFill>
          <a:blip r:embed="rId2"/>
          <a:stretch/>
        </p:blipFill>
        <p:spPr>
          <a:xfrm>
            <a:off x="244440" y="615960"/>
            <a:ext cx="2017800" cy="18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7d"/>
                </a:solidFill>
                <a:uFillTx/>
                <a:latin typeface="Arial"/>
              </a:rPr>
              <a:t>1 этап.</a:t>
            </a:r>
            <a:r>
              <a:rPr b="1" lang="ru-RU" sz="4400" spc="-1" strike="noStrike" u="sng">
                <a:solidFill>
                  <a:srgbClr val="00007d"/>
                </a:solidFill>
                <a:uFillTx/>
                <a:latin typeface="Arial"/>
              </a:rPr>
              <a:t>	</a:t>
            </a:r>
            <a:r>
              <a:rPr b="1" lang="ru-RU" sz="4400" spc="-1" strike="noStrike" u="sng">
                <a:solidFill>
                  <a:srgbClr val="00007d"/>
                </a:solidFill>
                <a:uFillTx/>
                <a:latin typeface="Arial"/>
              </a:rPr>
              <a:t> Организационный</a:t>
            </a:r>
            <a:r>
              <a:rPr b="1" i="1" lang="ru-RU" sz="4400" spc="-1" strike="noStrike" u="sng">
                <a:solidFill>
                  <a:srgbClr val="00007d"/>
                </a:solidFill>
                <a:uFillTx/>
                <a:latin typeface="Arial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285920"/>
            <a:ext cx="822960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9-11 классах проведён урок на тему: «Антропогенные факторы и их воздействие на окружающую среду». Учащиеся получили исследовательские и творческие зад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ные зад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 публикаций в СМИ на экологические 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бор фотоматериа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рвьюирование  жителей гор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сание рецензий на материалы экологической те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я последующая работа проводится как внекласс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231840" y="36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91440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2 этап</a:t>
            </a: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	</a:t>
            </a:r>
            <a:br>
              <a:rPr sz="3200"/>
            </a:b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1" lang="ru-RU" sz="4400" spc="-1" strike="noStrike" u="sng">
                <a:solidFill>
                  <a:srgbClr val="00007d"/>
                </a:solidFill>
                <a:uFillTx/>
                <a:latin typeface="Arial"/>
              </a:rPr>
              <a:t>Создание</a:t>
            </a:r>
            <a:r>
              <a:rPr b="1" lang="en-US" sz="4400" spc="-1" strike="noStrike" u="sng">
                <a:solidFill>
                  <a:srgbClr val="00007d"/>
                </a:solidFill>
                <a:uFillTx/>
                <a:latin typeface="Arial"/>
              </a:rPr>
              <a:t> </a:t>
            </a:r>
            <a:r>
              <a:rPr b="1" lang="ru-RU" sz="4400" spc="-1" strike="noStrike" u="sng">
                <a:solidFill>
                  <a:srgbClr val="00007d"/>
                </a:solidFill>
                <a:uFillTx/>
                <a:latin typeface="Arial"/>
              </a:rPr>
              <a:t>координационного</a:t>
            </a: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4400" spc="-1" strike="noStrike" u="sng">
                <a:solidFill>
                  <a:srgbClr val="00007d"/>
                </a:solidFill>
                <a:uFillTx/>
                <a:latin typeface="Arial"/>
              </a:rPr>
              <a:t>совета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235728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ыли приглашены все желающие. Выбрали руководителя проекта из числа учащихся и создали координационный совет, определили его задачи и наметили план рабо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формировали рабочие группы и назначили их руководител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4400" spc="-1" strike="noStrike" u="sng">
                <a:solidFill>
                  <a:srgbClr val="00007d"/>
                </a:solidFill>
                <a:uFillTx/>
                <a:latin typeface="Arial"/>
              </a:rPr>
              <a:t>Рабочие групп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1" lang="ru-RU" sz="2800" spc="-1" strike="noStrike" u="sng">
                <a:solidFill>
                  <a:srgbClr val="00007d"/>
                </a:solidFill>
                <a:uFillTx/>
                <a:latin typeface="Arial"/>
              </a:rPr>
              <a:t>. Поисково-исследовательская групп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сбор экологической информации, проведение эколо-гических рейдов, проведение исследовательских ра-бот по определению влияния различных факторов среды на численность русской выхухол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2. </a:t>
            </a:r>
            <a:r>
              <a:rPr b="1" lang="ru-RU" sz="2800" spc="-1" strike="noStrike" u="sng">
                <a:solidFill>
                  <a:srgbClr val="00007d"/>
                </a:solidFill>
                <a:uFillTx/>
                <a:latin typeface="Arial"/>
              </a:rPr>
              <a:t>Информационно-аналитическая груп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анализ практических материалов, их статистическая обработка и ознакомление с ними широкого круга населен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1" lang="ru-RU" sz="2800" spc="-1" strike="noStrike" u="sng">
                <a:solidFill>
                  <a:srgbClr val="00007d"/>
                </a:solidFill>
                <a:uFillTx/>
                <a:latin typeface="Arial"/>
              </a:rPr>
              <a:t>. Творческая группа</a:t>
            </a: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создание фильмов, плакатов, стендов, экологичес-ких сказок и т.д. в защиту </a:t>
            </a: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ЖИЗНИ</a:t>
            </a: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7d"/>
                </a:solidFill>
                <a:uFillTx/>
                <a:latin typeface="Arial"/>
              </a:rPr>
              <a:t>3 этап</a:t>
            </a:r>
            <a:r>
              <a:rPr b="1" i="1" lang="ru-RU" sz="4000" spc="-1" strike="noStrike" u="sng">
                <a:solidFill>
                  <a:srgbClr val="00007d"/>
                </a:solidFill>
                <a:uFillTx/>
                <a:latin typeface="Arial"/>
              </a:rPr>
              <a:t>.</a:t>
            </a:r>
            <a:r>
              <a:rPr b="1" i="1" lang="ru-RU" sz="4400" spc="-1" strike="noStrike" u="sng">
                <a:solidFill>
                  <a:srgbClr val="00007d"/>
                </a:solidFill>
                <a:uFillTx/>
                <a:latin typeface="Arial"/>
              </a:rPr>
              <a:t>	</a:t>
            </a:r>
            <a:r>
              <a:rPr b="1" lang="ru-RU" sz="4800" spc="-1" strike="noStrike" u="sng">
                <a:solidFill>
                  <a:srgbClr val="00007d"/>
                </a:solidFill>
                <a:uFillTx/>
                <a:latin typeface="Arial"/>
              </a:rPr>
              <a:t> Практическ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57176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71640" indent="-51444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Выполнение индивидуальных, группов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следовательских, аналитических зад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Оформление иллюстративных  материа-лов на стендах и в фотоальбом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Выполнение творческих зад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Экологический патру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7d"/>
                </a:solidFill>
                <a:uFillTx/>
                <a:latin typeface="Arial"/>
              </a:rPr>
              <a:t>4 этап</a:t>
            </a: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5400" spc="-1" strike="noStrike" u="sng">
                <a:solidFill>
                  <a:srgbClr val="00007d"/>
                </a:solidFill>
                <a:uFillTx/>
                <a:latin typeface="Arial"/>
              </a:rPr>
              <a:t>Рефлексия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428480"/>
            <a:ext cx="8229600" cy="44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Экологическая конференц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Подведение итогов работы (презентация слайд- фильмов о проблемах русской выхухоли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Создание экологического патрул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Обращение к жителям горо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Предложения по дальнейшей рабо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Немаловажно, что проект получил одобрение и поддержку администрации города</a:t>
            </a:r>
            <a:r>
              <a:rPr b="0" lang="ru-RU" sz="3200" spc="-1" strike="noStrike" u="sng">
                <a:solidFill>
                  <a:srgbClr val="c00000"/>
                </a:solidFill>
                <a:uFillTx/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2560" y="642600"/>
            <a:ext cx="8209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Экологическая конферен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1285920"/>
            <a:ext cx="9144000" cy="15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нный вид деятельности позволяет каждому ученику предста-вить свою работу, высказать своё мнение, возразить другому, обозначить и аргументировать свою позицию и сравнить её с другими, найти точки соприкосновения или точки антагонисты, высказанных пози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9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4859280" y="3068640"/>
            <a:ext cx="4284720" cy="3789360"/>
          </a:xfrm>
          <a:prstGeom prst="rect">
            <a:avLst/>
          </a:prstGeom>
          <a:ln w="76320">
            <a:solidFill>
              <a:srgbClr val="0e0b51"/>
            </a:solidFill>
            <a:miter/>
          </a:ln>
        </p:spPr>
      </p:pic>
      <p:pic>
        <p:nvPicPr>
          <p:cNvPr id="180" name="Picture 10" descr=""/>
          <p:cNvPicPr/>
          <p:nvPr/>
        </p:nvPicPr>
        <p:blipFill>
          <a:blip r:embed="rId2">
            <a:lum contrast="8000"/>
          </a:blip>
          <a:stretch/>
        </p:blipFill>
        <p:spPr>
          <a:xfrm>
            <a:off x="0" y="3019320"/>
            <a:ext cx="5364000" cy="3838680"/>
          </a:xfrm>
          <a:prstGeom prst="rect">
            <a:avLst/>
          </a:prstGeom>
          <a:ln w="76320">
            <a:solidFill>
              <a:srgbClr val="0e0b51"/>
            </a:solidFill>
            <a:miter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 u="sng">
                <a:solidFill>
                  <a:srgbClr val="00007d"/>
                </a:solidFill>
                <a:uFillTx/>
                <a:latin typeface="Arial"/>
              </a:rPr>
              <a:t>Просветительская и </a:t>
            </a:r>
            <a:r>
              <a:rPr b="1" lang="ru-RU" sz="4000" spc="-1" strike="noStrike" u="sng">
                <a:solidFill>
                  <a:srgbClr val="00007d"/>
                </a:solidFill>
                <a:uFillTx/>
                <a:latin typeface="Arial"/>
              </a:rPr>
              <a:t>	</a:t>
            </a:r>
            <a:r>
              <a:rPr b="1" lang="ru-RU" sz="4000" spc="-1" strike="noStrike" u="sng">
                <a:solidFill>
                  <a:srgbClr val="00007d"/>
                </a:solidFill>
                <a:uFillTx/>
                <a:latin typeface="Arial"/>
              </a:rPr>
              <a:t>организационная рабо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стями конференции были мэр города Кузнецов А.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tretch/>
        </p:blipFill>
        <p:spPr>
          <a:xfrm>
            <a:off x="1619280" y="2428920"/>
            <a:ext cx="5878440" cy="408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50920" y="907560"/>
            <a:ext cx="82915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 u="sng">
                <a:solidFill>
                  <a:srgbClr val="00007d"/>
                </a:solidFill>
                <a:uFillTx/>
                <a:latin typeface="Arial"/>
              </a:rPr>
              <a:t>Экологический патрул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844280"/>
            <a:ext cx="9144000" cy="44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нная форма работы предусматривает озеленение города, очистку территорий от бытового мусора, помощь лесхозу в посадке и прополке саженцев и т.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539640" y="3205080"/>
            <a:ext cx="4176720" cy="31482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DSCN3284"/>
          <p:cNvPicPr/>
          <p:nvPr/>
        </p:nvPicPr>
        <p:blipFill>
          <a:blip r:embed="rId2"/>
          <a:stretch/>
        </p:blipFill>
        <p:spPr>
          <a:xfrm>
            <a:off x="4143240" y="3041640"/>
            <a:ext cx="4316400" cy="353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00007d"/>
                </a:solidFill>
                <a:uFillTx/>
                <a:latin typeface="Arial"/>
              </a:rPr>
              <a:t>Подведение итогов работы </a:t>
            </a:r>
            <a:br>
              <a:rPr sz="2800"/>
            </a:b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(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презентации слайд - фильмов о проблемах 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русской выхухол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нные фильмы можно использовать в качестве учебных фильмов на уроках  экологии при изучении регионального компонента образования в 7 классов, а также во внеурочной деятельности и на уроках биолог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 u="sng">
                <a:solidFill>
                  <a:srgbClr val="00007d"/>
                </a:solidFill>
                <a:uFillTx/>
                <a:latin typeface="Arial"/>
              </a:rPr>
              <a:t>Презентации слайд - фильмов о </a:t>
            </a: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3200" spc="-1" strike="noStrike" u="sng">
                <a:solidFill>
                  <a:srgbClr val="00007d"/>
                </a:solidFill>
                <a:uFillTx/>
                <a:latin typeface="Arial"/>
              </a:rPr>
              <a:t>проблемах русской выхухоли)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7d"/>
                </a:solidFill>
                <a:latin typeface="Arial"/>
              </a:rPr>
              <a:t>резентации слайд - фильмов о проблемах </a:t>
            </a:r>
            <a:r>
              <a:rPr b="0" lang="ru-RU" sz="32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7d"/>
                </a:solidFill>
                <a:latin typeface="Arial"/>
              </a:rPr>
              <a:t>русской выхухоли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ль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1. Среда обитания и образ жизни выхухо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льм 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Факторы угрозы исчезновения выхухо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льм 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Воронежский заповед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льм 4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Русская выхухоль. Биологический ви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льм 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Сохранение биоразнообразия на примере выхухо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980640"/>
            <a:ext cx="88200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4000" spc="-1" strike="noStrike" u="sng">
                <a:solidFill>
                  <a:srgbClr val="00007d"/>
                </a:solidFill>
                <a:uFillTx/>
                <a:latin typeface="Arial"/>
              </a:rPr>
              <a:t>Я есть жизнь, желающая жить среди жизни, желающей жить</a:t>
            </a: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. Швейце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6"/>
          <p:cNvSpPr/>
          <p:nvPr/>
        </p:nvSpPr>
        <p:spPr>
          <a:xfrm>
            <a:off x="0" y="2492280"/>
            <a:ext cx="9144000" cy="43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лавная идея проекта –побудить учащихся задуматься о своём месте в современном мире, сформировать активную жизненную позицию, решить для себя главную нравственную проблему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7" descr="buzzy_mad_md_wht"/>
          <p:cNvPicPr/>
          <p:nvPr/>
        </p:nvPicPr>
        <p:blipFill>
          <a:blip r:embed="rId1"/>
          <a:stretch/>
        </p:blipFill>
        <p:spPr>
          <a:xfrm rot="1500000">
            <a:off x="7235640" y="4652640"/>
            <a:ext cx="1022040" cy="109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НФОРМАЦИОННЫЙ РЕСУР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4320" y="2190600"/>
            <a:ext cx="7934040" cy="34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 Полат Е.С. Новые педагогические и информационные технологии в системе образования.-М.:Академия, 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 Пономарёва И.Н. Общая экология: Учебное пособие.-СПб.: Образование,199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 Школьный экологический мониторинг: Учебно-методическое пособие Под ред. Т.Я. Ашихминой.-М.:АГАР,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. Биология в школе. Научно-теоретический и методический журнал.Подборка 1990-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. Биология. Под ред.академикаРАМН профессораВ.Н.Ярыгина В двух книг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6. А.Н. Сизанов, В.А. Хриптович Модульный курс профилактики курения. Москва ВАКО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7. Тестирование детей Ростов- на –Дону Феникс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8. Экологический мониторинг. Н.А. Пугал, А.Д. Зверев Биолог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9. Приложение к газете Первое сентября 1996-200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0. Н.М. Мамедов Экология Москва Школа-Пресс 1996-07-3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1. Г.К.Зайцев Школьная валеология Санкт-Петербург Детство-Пресс 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лезные ссыл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0755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ttp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www.biodiversity.ru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programs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vyhuh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9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0"/>
              </a:rPr>
              <a:t>gallery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1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2"/>
              </a:rPr>
              <a:t>video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Фильм «Русская выхухоль», телестудии «Брянский лес» (11 мин., рус. и англ. язык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Фильм «Знакомьтесь: русская выхухоль», видеостудия заповедника «Керженский» (13 мин., рус. язык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Видеоролик социальной рекламы, посвященный борьбе с использованием для лова рыбы лесочных сетей и защите русской выхухоли (35 секунд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/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odiversity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yhuh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j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05-06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лект информационных материалов к уроку о русской выхухоли, разработанный Центром охраны дикой природы. В комплект входят научно-популярные фильмы и статьи о русской выхухоли, научная монография, карты ареала, рекомендации по сохранению вида, тест на проверку полученных знаний, фотографии  и ряд других материалов. Также здесь размещен набор планов к уроку о русской выхухоли, разработанный профессиональными педагогами для школьников разных возрастов, а также приложенные к планам учебные игры и красочные презентации, которыми можно дополнить ваш ур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/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odiversity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yhuh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yhuh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afle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формационная листовка, кратко освещающая проблему катастрофического уменьшения численности русской выхухо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66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Arial"/>
              </a:rPr>
              <a:t>Главная нравственная   пробле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9680" y="1557360"/>
            <a:ext cx="86439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то 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3505"/>
                </a:solidFill>
                <a:latin typeface="Arial"/>
              </a:rPr>
              <a:t>Жизн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4000" spc="-1" strike="noStrike">
                <a:solidFill>
                  <a:srgbClr val="00007d"/>
                </a:solidFill>
                <a:latin typeface="Arial"/>
              </a:rPr>
              <a:t>желающая жить среди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e53505"/>
                </a:solidFill>
                <a:latin typeface="Arial"/>
              </a:rPr>
              <a:t>жизни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4000" spc="-1" strike="noStrike">
                <a:solidFill>
                  <a:srgbClr val="00007d"/>
                </a:solidFill>
                <a:latin typeface="Arial"/>
              </a:rPr>
              <a:t>желающей жить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3505"/>
                </a:solidFill>
                <a:latin typeface="Arial"/>
              </a:rPr>
              <a:t>Жизнь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7d"/>
                </a:solidFill>
                <a:latin typeface="Arial"/>
              </a:rPr>
              <a:t>несущая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мерть</a:t>
            </a:r>
            <a:r>
              <a:rPr b="1" lang="en-US" sz="4000" spc="-1" strike="noStrike">
                <a:solidFill>
                  <a:srgbClr val="00007d"/>
                </a:solidFill>
                <a:latin typeface="Arial"/>
              </a:rPr>
              <a:t> жизни, </a:t>
            </a:r>
            <a:r>
              <a:rPr b="1" lang="en-US" sz="4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7d"/>
                </a:solidFill>
                <a:latin typeface="Arial"/>
              </a:rPr>
              <a:t>желающей жи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ного не дан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8" descr="P9190157"/>
          <p:cNvPicPr/>
          <p:nvPr/>
        </p:nvPicPr>
        <p:blipFill>
          <a:blip r:embed="rId1"/>
          <a:stretch/>
        </p:blipFill>
        <p:spPr>
          <a:xfrm>
            <a:off x="395280" y="692280"/>
            <a:ext cx="8064360" cy="57243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9"/>
          <p:cNvSpPr/>
          <p:nvPr/>
        </p:nvSpPr>
        <p:spPr>
          <a:xfrm>
            <a:off x="684360" y="765000"/>
            <a:ext cx="71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7d"/>
                </a:solidFill>
                <a:uFillTx/>
                <a:latin typeface="Arial"/>
              </a:rPr>
              <a:t>Я есть жизнь…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8" presetSubtype="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907560"/>
            <a:ext cx="9144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4800" spc="-1" strike="noStrike" u="sng">
                <a:solidFill>
                  <a:srgbClr val="00007d"/>
                </a:solidFill>
                <a:uFillTx/>
                <a:latin typeface="Arial"/>
              </a:rPr>
              <a:t>Экологическое созн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 основ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равственной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облемы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заимоотношений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еловека и среды его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битания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ежит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кологическое сознание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buzzy_mad_md_wht"/>
          <p:cNvPicPr/>
          <p:nvPr/>
        </p:nvPicPr>
        <p:blipFill>
          <a:blip r:embed="rId1"/>
          <a:stretch/>
        </p:blipFill>
        <p:spPr>
          <a:xfrm rot="1500000">
            <a:off x="182160" y="2808000"/>
            <a:ext cx="1022400" cy="109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4800" spc="-1" strike="noStrike" u="sng">
                <a:solidFill>
                  <a:srgbClr val="00007d"/>
                </a:solidFill>
                <a:uFillTx/>
                <a:latin typeface="Arial"/>
              </a:rPr>
              <a:t>Экологическое созн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4920" y="1915920"/>
            <a:ext cx="835812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 словам Н.И.Конрада,  мы обретём его, если ответим себ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 вопрос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-Кто я, человек, овладевающий силами природ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-Каковы мои права и обязанности по отношению и к природе, и к самому себ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-И есть ли предел этих пра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-А если есть, то каков о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DSCN3284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87088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5"/>
          <p:cNvSpPr/>
          <p:nvPr/>
        </p:nvSpPr>
        <p:spPr>
          <a:xfrm>
            <a:off x="611280" y="836640"/>
            <a:ext cx="77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Arial"/>
              </a:rPr>
              <a:t>Экологическое сознание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Arial"/>
              </a:rPr>
              <a:t>Уникальность данного проект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9280" y="1915920"/>
            <a:ext cx="896472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его создании и реализации используется не только </a:t>
            </a: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теоретически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но и </a:t>
            </a:r>
            <a:r>
              <a:rPr b="1" lang="en-US" sz="3200" spc="-1" strike="noStrike">
                <a:solidFill>
                  <a:srgbClr val="e53505"/>
                </a:solidFill>
                <a:latin typeface="Arial"/>
              </a:rPr>
              <a:t>большо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53505"/>
                </a:solidFill>
                <a:latin typeface="Arial"/>
              </a:rPr>
              <a:t>практический материа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собранный лицеистами: фотографии, интервью с жителями и охотниками, встречи с охотоведами, экологами города и района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0_bd67_95ae3398_L"/>
          <p:cNvPicPr/>
          <p:nvPr/>
        </p:nvPicPr>
        <p:blipFill>
          <a:blip r:embed="rId1"/>
          <a:stretch/>
        </p:blipFill>
        <p:spPr>
          <a:xfrm>
            <a:off x="5030640" y="4643280"/>
            <a:ext cx="4113360" cy="2214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9T13:18:38Z</dcterms:created>
  <dc:creator>АняЛенаНастя</dc:creator>
  <dc:description/>
  <dc:language>en-US</dc:language>
  <cp:lastModifiedBy>Natasha Novoselova</cp:lastModifiedBy>
  <dcterms:modified xsi:type="dcterms:W3CDTF">2009-10-29T13:15:34Z</dcterms:modified>
  <cp:revision>201</cp:revision>
  <dc:subject/>
  <dc:title>Человек – нечаянная, мучительная и прекрасная попытка природы осознать самое себя.   Экологический проект.</dc:title>
</cp:coreProperties>
</file>